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A64B-B7FB-4350-9B91-E81AB4260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4112-9288-4945-97F4-D9767AB87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DB81-60EC-4986-92A1-B04036B87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43F7-66F5-4CD6-8774-97C3D6F14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3666-D6E1-42A6-8E03-01151E2AC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4605-7828-484A-84B6-85EBF958F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50B1-47B7-4712-89C4-9F4707252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81B6-7627-4313-96BE-DAD6775BA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D3D8-D45C-44E8-A9FF-C59F3BEDE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0840-8F6E-4824-A35C-6ABBBF815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3284-B067-41C9-8CD5-864D5468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1BE9-91A0-45ED-9309-24F9B155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ea2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3F927-561B-4CBE-B955-C426D5FC63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ea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809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Got food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0"/>
            <a:ext cx="2286000" cy="23623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6415200"/>
            <a:ext cx="26668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y: Brian Walk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91320" y="1066680"/>
            <a:ext cx="2438280" cy="22860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ea2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conclusion was correct, The Guys in my experiment did eat faster than girls. I found the individual speeds of each person I tested then found an average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verage Guy speed was 8.4606min. Or 507.64 se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verage Girl speed was 11.3344 min. or 680.064 se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ea2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23880" y="1143000"/>
            <a:ext cx="586764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ve you ever wondered who eats faster, guys or girls?  Well if you’ve ever had the same random thought as I did, then your probably going to like my project and if you haven’t then you’ll like it any way! Just kidding but look at my project pleas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54864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ssst…..It’s the best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362320" y="0"/>
            <a:ext cx="3519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Introduction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ea2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effect does gender have on eating spe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ea2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predict that guys will eat faster than girls because they need more calories than girls so it is just natural to eat faster. Also, I think girls tend to talk more when they’re ea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ea2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 Inf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been proven that girls, on average, talk 3 times more than boys on a normal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lor orange actually tends to give the feeling of being full, while the color red makes you hungry. (look at the color of my slid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ea2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test su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cell phone (stop wat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nch 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ea2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Observe 5 guys and girls eating, separately, and record their spee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Write down my observ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Add all times together and figure an a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Maybe do additional testing (all males vs. all females) to see what happens as an additional var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ea2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4876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ject 1(male) time: 9 min 16.67 se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ject 2(female) time 14 min. 56.82 se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ject 3(male) time 10 min 51.37 se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ject 4(female) time 11 min. 19.49 se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ject 5(male) time 8 min. 29.78 se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ject 6(female) time 9 min. 7.10 se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ject 7(male) time 7 min. 34.57 se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ject 8(female) time 11min. 2.94 se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ject 9(male) time 6min. 5.81 se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ject 10( female) time10min. 13.97se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800600" y="1447920"/>
          <a:ext cx="4038480" cy="4525200"/>
        </p:xfrm>
        <a:graphic>
          <a:graphicData uri="http://schemas.openxmlformats.org/drawingml/2006/table">
            <a:tbl>
              <a:tblPr/>
              <a:tblGrid>
                <a:gridCol w="581760"/>
                <a:gridCol w="749520"/>
                <a:gridCol w="1045440"/>
                <a:gridCol w="650880"/>
                <a:gridCol w="1010880"/>
              </a:tblGrid>
              <a:tr h="646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irl's Spe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uy's Spe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ject 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min. 56.82se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ject 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min. 16.67se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ject 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min. 19.49se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ject 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min. 51.37se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ject 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min.7.10se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ject 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min. 29.78se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ject 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min. 2.94 se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ject 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min. 34.57se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ject 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min. 13.97 se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ject 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min.5.81 se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.3344 min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.4606- min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5334120" y="5486400"/>
            <a:ext cx="914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verag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ea2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rls tend to talk a lot more and also use their phones more, (this is just from the first 2 subjec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most of the time the girls tended to talk more with girls, and guys with gu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1T15:23:11Z</dcterms:created>
  <dc:creator>USD376</dc:creator>
  <dc:description/>
  <dc:language>en-US</dc:language>
  <cp:lastModifiedBy>USD376</cp:lastModifiedBy>
  <dcterms:modified xsi:type="dcterms:W3CDTF">2010-04-30T19:43:28Z</dcterms:modified>
  <cp:revision>34</cp:revision>
  <dc:subject/>
  <dc:title>Slide 1</dc:title>
</cp:coreProperties>
</file>